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0960" cy="25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816000"/>
            <a:ext cx="7770960" cy="25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91880" cy="25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7760" y="990720"/>
            <a:ext cx="3791880" cy="25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816000"/>
            <a:ext cx="3791880" cy="25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7760" y="3816000"/>
            <a:ext cx="3791880" cy="25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2502000" cy="25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440" y="990720"/>
            <a:ext cx="2502000" cy="25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0720" y="990720"/>
            <a:ext cx="2502000" cy="25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816000"/>
            <a:ext cx="2502000" cy="25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440" y="3816000"/>
            <a:ext cx="2502000" cy="25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0720" y="3816000"/>
            <a:ext cx="2502000" cy="25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0960" cy="54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0960" cy="54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91880" cy="54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7760" y="990720"/>
            <a:ext cx="3791880" cy="54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0960" cy="28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91880" cy="25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7760" y="990720"/>
            <a:ext cx="3791880" cy="54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816000"/>
            <a:ext cx="3791880" cy="25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91880" cy="54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760" y="990720"/>
            <a:ext cx="3791880" cy="25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7760" y="3816000"/>
            <a:ext cx="3791880" cy="25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91880" cy="25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760" y="990720"/>
            <a:ext cx="3791880" cy="25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816000"/>
            <a:ext cx="7770960" cy="25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990720"/>
            <a:ext cx="7770960" cy="54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3"/>
          <p:cNvSpPr/>
          <p:nvPr/>
        </p:nvSpPr>
        <p:spPr>
          <a:xfrm>
            <a:off x="0" y="838080"/>
            <a:ext cx="9144000" cy="18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Rectangle 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icub yarp tracker project                                                                                                                  VVV 201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1"/>
          <p:cNvSpPr/>
          <p:nvPr/>
        </p:nvSpPr>
        <p:spPr>
          <a:xfrm>
            <a:off x="685800" y="1219320"/>
            <a:ext cx="7772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hemus Motion Tracking</a:t>
            </a:r>
            <a:br>
              <a:rPr sz="3200"/>
            </a:b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briel Baud-Bov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ke Ciaraldi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lia De Santi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191120" y="1905120"/>
            <a:ext cx="4343400" cy="44956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hemus Libe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3429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ra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onary antenna, movable sen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less now also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0 samples/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 to 16 sen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llimeter accu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APIs for Windows and 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"/>
          <p:cNvSpPr/>
          <p:nvPr/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Our Desig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457200" y="11430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720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5156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efinitio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720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5156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TrackerDevice is a device that delivers position and, optionally, orientation of one or more senso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720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5156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mpatible with YARP device drive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tabLst>
                <a:tab algn="l" pos="0"/>
                <a:tab algn="l" pos="18720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720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5156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fferent type of trackers (use helper class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720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5156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lhemus Liberty: PolhemusTrack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720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5156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edefined trajectories: ConstantTracker, CircleTrack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720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5156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use: MouseTracker (not yet implement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720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5156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tabLst>
                <a:tab algn="l" pos="0"/>
                <a:tab algn="l" pos="18720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720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5156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wo acquisition mod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720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5156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lling mo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720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5156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tinuous mode: buffered port (partially implement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1"/>
          <p:cNvSpPr/>
          <p:nvPr/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Our Desig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533520" y="1143000"/>
            <a:ext cx="7696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720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5156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nfigurable outp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720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5156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s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720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5156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rien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720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5156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ne or more sensors (not implement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720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5156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imestamps (not implement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tabLst>
                <a:tab algn="l" pos="0"/>
                <a:tab algn="l" pos="18720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720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5156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ordinate system transformation: output in iCub frame of refer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587520" indent="-187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720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5156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figurable antenna lo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tabLst>
                <a:tab algn="l" pos="0"/>
                <a:tab algn="l" pos="18720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720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5156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ynchronization (not implement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533520" y="2971800"/>
            <a:ext cx="182880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lhemusTrack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4572000" y="2971800"/>
            <a:ext cx="182880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ircleTrack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6553080" y="2971800"/>
            <a:ext cx="182880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stantTrack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533520" y="2133720"/>
            <a:ext cx="7848360" cy="533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racker (abstract clas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4952880" y="1143000"/>
            <a:ext cx="182880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rackerDe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3" name="AutoShape 6"/>
          <p:cNvCxnSpPr>
            <a:stCxn id="52" idx="1"/>
            <a:endCxn id="51" idx="0"/>
          </p:cNvCxnSpPr>
          <p:nvPr/>
        </p:nvCxnSpPr>
        <p:spPr>
          <a:xfrm flipV="1" rot="10800000">
            <a:off x="4457160" y="1408680"/>
            <a:ext cx="495720" cy="7246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Rectangle 7"/>
          <p:cNvSpPr/>
          <p:nvPr/>
        </p:nvSpPr>
        <p:spPr>
          <a:xfrm>
            <a:off x="2814120" y="1523880"/>
            <a:ext cx="145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racker *track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723960" y="5715000"/>
            <a:ext cx="769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720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5156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lhemusTracker class is implemented with two different APIs for Windows and Linux system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533520" y="3746520"/>
            <a:ext cx="182880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lhemus Develop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nterface (PDI.lib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Rectangle 11"/>
          <p:cNvSpPr/>
          <p:nvPr/>
        </p:nvSpPr>
        <p:spPr>
          <a:xfrm>
            <a:off x="2514600" y="3733920"/>
            <a:ext cx="1828800" cy="533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iTrack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libusb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Rectangle 12"/>
          <p:cNvSpPr/>
          <p:nvPr/>
        </p:nvSpPr>
        <p:spPr>
          <a:xfrm>
            <a:off x="533520" y="4522680"/>
            <a:ext cx="3809880" cy="506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lhemus Liber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0" name="Group 13"/>
          <p:cNvGrpSpPr/>
          <p:nvPr/>
        </p:nvGrpSpPr>
        <p:grpSpPr>
          <a:xfrm>
            <a:off x="1447920" y="2666880"/>
            <a:ext cx="150840" cy="294120"/>
            <a:chOff x="1447920" y="2666880"/>
            <a:chExt cx="150840" cy="294120"/>
          </a:xfrm>
        </p:grpSpPr>
        <p:cxnSp>
          <p:nvCxnSpPr>
            <p:cNvPr id="61" name="AutoShape 14"/>
            <p:cNvCxnSpPr>
              <a:stCxn id="62" idx="3"/>
              <a:endCxn id="48" idx="0"/>
            </p:cNvCxnSpPr>
            <p:nvPr/>
          </p:nvCxnSpPr>
          <p:spPr>
            <a:xfrm>
              <a:off x="1523520" y="2766960"/>
              <a:ext cx="1080" cy="194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62" name="AutoShape 15"/>
            <p:cNvSpPr/>
            <p:nvPr/>
          </p:nvSpPr>
          <p:spPr>
            <a:xfrm>
              <a:off x="1447920" y="2666880"/>
              <a:ext cx="150840" cy="9864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" name="Group 16"/>
          <p:cNvGrpSpPr/>
          <p:nvPr/>
        </p:nvGrpSpPr>
        <p:grpSpPr>
          <a:xfrm>
            <a:off x="5334120" y="2666880"/>
            <a:ext cx="150840" cy="294120"/>
            <a:chOff x="5334120" y="2666880"/>
            <a:chExt cx="150840" cy="294120"/>
          </a:xfrm>
        </p:grpSpPr>
        <p:cxnSp>
          <p:nvCxnSpPr>
            <p:cNvPr id="64" name="AutoShape 17"/>
            <p:cNvCxnSpPr>
              <a:stCxn id="65" idx="3"/>
            </p:cNvCxnSpPr>
            <p:nvPr/>
          </p:nvCxnSpPr>
          <p:spPr>
            <a:xfrm>
              <a:off x="5409720" y="2766960"/>
              <a:ext cx="1080" cy="194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65" name="AutoShape 18"/>
            <p:cNvSpPr/>
            <p:nvPr/>
          </p:nvSpPr>
          <p:spPr>
            <a:xfrm>
              <a:off x="5334120" y="2666880"/>
              <a:ext cx="150840" cy="9864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6" name="Group 19"/>
          <p:cNvGrpSpPr/>
          <p:nvPr/>
        </p:nvGrpSpPr>
        <p:grpSpPr>
          <a:xfrm>
            <a:off x="7315200" y="2666880"/>
            <a:ext cx="150840" cy="294120"/>
            <a:chOff x="7315200" y="2666880"/>
            <a:chExt cx="150840" cy="294120"/>
          </a:xfrm>
        </p:grpSpPr>
        <p:cxnSp>
          <p:nvCxnSpPr>
            <p:cNvPr id="67" name="AutoShape 20"/>
            <p:cNvCxnSpPr>
              <a:stCxn id="68" idx="3"/>
            </p:cNvCxnSpPr>
            <p:nvPr/>
          </p:nvCxnSpPr>
          <p:spPr>
            <a:xfrm>
              <a:off x="7391160" y="2766960"/>
              <a:ext cx="1080" cy="194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68" name="AutoShape 21"/>
            <p:cNvSpPr/>
            <p:nvPr/>
          </p:nvSpPr>
          <p:spPr>
            <a:xfrm>
              <a:off x="7315200" y="2666880"/>
              <a:ext cx="150840" cy="9864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9" name="Rectangle 22"/>
          <p:cNvSpPr/>
          <p:nvPr/>
        </p:nvSpPr>
        <p:spPr>
          <a:xfrm>
            <a:off x="2514600" y="2971800"/>
            <a:ext cx="182880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inuxPolhemusTrack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0" name="Group 23"/>
          <p:cNvGrpSpPr/>
          <p:nvPr/>
        </p:nvGrpSpPr>
        <p:grpSpPr>
          <a:xfrm>
            <a:off x="3276720" y="2666880"/>
            <a:ext cx="150840" cy="294120"/>
            <a:chOff x="3276720" y="2666880"/>
            <a:chExt cx="150840" cy="294120"/>
          </a:xfrm>
        </p:grpSpPr>
        <p:cxnSp>
          <p:nvCxnSpPr>
            <p:cNvPr id="71" name="AutoShape 24"/>
            <p:cNvCxnSpPr>
              <a:stCxn id="72" idx="3"/>
            </p:cNvCxnSpPr>
            <p:nvPr/>
          </p:nvCxnSpPr>
          <p:spPr>
            <a:xfrm>
              <a:off x="3352320" y="2766960"/>
              <a:ext cx="1080" cy="194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2" name="AutoShape 25"/>
            <p:cNvSpPr/>
            <p:nvPr/>
          </p:nvSpPr>
          <p:spPr>
            <a:xfrm>
              <a:off x="3276720" y="2666880"/>
              <a:ext cx="150840" cy="9864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3" name="Straight Connector 8"/>
          <p:cNvSpPr/>
          <p:nvPr/>
        </p:nvSpPr>
        <p:spPr>
          <a:xfrm>
            <a:off x="1447920" y="3505320"/>
            <a:ext cx="0" cy="24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Straight Connector 34"/>
          <p:cNvSpPr/>
          <p:nvPr/>
        </p:nvSpPr>
        <p:spPr>
          <a:xfrm flipV="1">
            <a:off x="3429000" y="3504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Straight Connector 37"/>
          <p:cNvSpPr/>
          <p:nvPr/>
        </p:nvSpPr>
        <p:spPr>
          <a:xfrm>
            <a:off x="1447920" y="4281480"/>
            <a:ext cx="0" cy="24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Straight Connector 38"/>
          <p:cNvSpPr/>
          <p:nvPr/>
        </p:nvSpPr>
        <p:spPr>
          <a:xfrm>
            <a:off x="3451320" y="4280040"/>
            <a:ext cx="0" cy="24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1"/>
          <p:cNvSpPr/>
          <p:nvPr/>
        </p:nvSpPr>
        <p:spPr>
          <a:xfrm>
            <a:off x="685800" y="1981080"/>
            <a:ext cx="769608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9000" indent="-187560">
              <a:lnSpc>
                <a:spcPct val="100000"/>
              </a:lnSpc>
              <a:tabLst>
                <a:tab algn="l" pos="0"/>
                <a:tab algn="l" pos="189000"/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89000" indent="-187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9000"/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5156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tart yarp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89000" indent="-187560">
              <a:lnSpc>
                <a:spcPct val="100000"/>
              </a:lnSpc>
              <a:tabLst>
                <a:tab algn="l" pos="0"/>
                <a:tab algn="l" pos="189000"/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89000" indent="-187560">
              <a:lnSpc>
                <a:spcPct val="100000"/>
              </a:lnSpc>
              <a:tabLst>
                <a:tab algn="l" pos="0"/>
                <a:tab algn="l" pos="189000"/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5156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yarp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89000" indent="-187560">
              <a:lnSpc>
                <a:spcPct val="100000"/>
              </a:lnSpc>
              <a:tabLst>
                <a:tab algn="l" pos="0"/>
                <a:tab algn="l" pos="189000"/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89000" indent="-187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9000"/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5156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tart track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89000" indent="-187560">
              <a:lnSpc>
                <a:spcPct val="100000"/>
              </a:lnSpc>
              <a:tabLst>
                <a:tab algn="l" pos="0"/>
                <a:tab algn="l" pos="189000"/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89000" indent="-187560">
              <a:lnSpc>
                <a:spcPct val="100000"/>
              </a:lnSpc>
              <a:tabLst>
                <a:tab algn="l" pos="0"/>
                <a:tab algn="l" pos="189000"/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5156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polhemus –-type polhemus –-calibration 1.0 1.0 0.0 0.0 0.0 0.0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89000" indent="-187560">
              <a:lnSpc>
                <a:spcPct val="100000"/>
              </a:lnSpc>
              <a:tabLst>
                <a:tab algn="l" pos="0"/>
                <a:tab algn="l" pos="189000"/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89000" indent="-187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9000"/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5156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ad from track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89000" indent="-187560">
              <a:lnSpc>
                <a:spcPct val="100000"/>
              </a:lnSpc>
              <a:tabLst>
                <a:tab algn="l" pos="0"/>
                <a:tab algn="l" pos="189000"/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89000" indent="-187560">
              <a:lnSpc>
                <a:spcPct val="100000"/>
              </a:lnSpc>
              <a:tabLst>
                <a:tab algn="l" pos="0"/>
                <a:tab algn="l" pos="189000"/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5156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yarp read ... /track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89000" indent="-187560">
              <a:lnSpc>
                <a:spcPct val="100000"/>
              </a:lnSpc>
              <a:tabLst>
                <a:tab algn="l" pos="0"/>
                <a:tab algn="l" pos="189000"/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89000" indent="-18756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189000"/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5156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nect to simulator (PMP makes hand reach for sensor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89000" indent="-187560">
              <a:lnSpc>
                <a:spcPct val="100000"/>
              </a:lnSpc>
              <a:tabLst>
                <a:tab algn="l" pos="0"/>
                <a:tab algn="l" pos="189000"/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89000" indent="-187560">
              <a:lnSpc>
                <a:spcPct val="100000"/>
              </a:lnSpc>
              <a:tabLst>
                <a:tab algn="l" pos="0"/>
                <a:tab algn="l" pos="189000"/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5156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manager.py ptracker.x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89000" indent="-187560">
              <a:lnSpc>
                <a:spcPct val="100000"/>
              </a:lnSpc>
              <a:tabLst>
                <a:tab algn="l" pos="0"/>
                <a:tab algn="l" pos="189000"/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89000" indent="-187560">
              <a:lnSpc>
                <a:spcPct val="100000"/>
              </a:lnSpc>
              <a:tabLst>
                <a:tab algn="l" pos="0"/>
                <a:tab algn="l" pos="189000"/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ke Ciaraldi</cp:lastModifiedBy>
  <dcterms:modified xsi:type="dcterms:W3CDTF">2011-07-27T11:23:42Z</dcterms:modified>
  <cp:revision>10</cp:revision>
  <dc:subject/>
  <dc:title>PowerPoint Presentation</dc:title>
</cp:coreProperties>
</file>